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5F772-BBA1-4D24-B091-8ECF1100E4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A3C33-DFC4-46EE-A48B-B0208F27E6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49381-4580-4092-BF8F-084913E48D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84829-50DD-4D6B-B388-4F3A5C5FE1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57853-DBE3-4B28-BA40-507ECEEF04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5CF07-3873-461D-820E-4FC023E871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1BFE0-3A1B-49D0-ACA7-7A777AF3F6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51299-72B0-4B04-A852-01C4DE703B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22B0-2DEA-4990-91DC-08AEB8CA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8A09-F0D7-4244-A095-6A0A4251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1FC6-9582-4BC5-8764-5CE67D99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B63F-3166-4721-B9B0-E604889F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5A35-66B2-4E29-8B23-977DA2CA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E26E-C342-48F8-AF85-EB453022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0A5A-C890-4DA3-A21A-F9DA0AB6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D576-E579-4ABC-8484-2D79F4BC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ED4C-E661-44CB-A240-E533B457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AC14-D294-4EB8-BD6E-E884722E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955D-D71D-4110-AB3D-7DD671E2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59CE-3183-4DA0-B50B-01610AFE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F8D34-FC7B-41AD-AB58-ACE11639D2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279800" y="2103480"/>
            <a:ext cx="7626960" cy="8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How Great Is Our Go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20640" y="1862280"/>
            <a:ext cx="876312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 splendor of the King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lothed in majest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Let all the earth rejoic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ll the earth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e wraps Himself in lig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darkness tries to h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trembles at His voic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rembles at His v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20640" y="1862280"/>
            <a:ext cx="876312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 is our God, sing with m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 is our God, all will 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, how great is our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20640" y="1862280"/>
            <a:ext cx="876312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ge to age He stan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time is in His han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Beginning and the en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Beginning and the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 Godhead, three in on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Father, Spirit, So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 Lion and the Lamb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 Lion and the La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620640" y="1862280"/>
            <a:ext cx="876312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 is our God, sing with m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 is our God, all will 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, how great is our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620640" y="1862280"/>
            <a:ext cx="8763120" cy="17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Name above all name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orthy of all prais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My heart will 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 is our G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620640" y="1862280"/>
            <a:ext cx="876312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 is our God, sing with m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 is our God, all will 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, how great is our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</dc:creator>
  <dc:description/>
  <dc:language>en-US</dc:language>
  <cp:lastModifiedBy>Peter</cp:lastModifiedBy>
  <dcterms:modified xsi:type="dcterms:W3CDTF">2011-06-08T04:58:00Z</dcterms:modified>
  <cp:revision>28</cp:revision>
  <dc:subject/>
  <dc:title>Slide 1</dc:title>
</cp:coreProperties>
</file>